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4AC8B-5974-45BE-87E1-4D72A01B56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97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2920" y="1600200"/>
            <a:ext cx="7962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72920" y="3988440"/>
            <a:ext cx="7962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C5FA0-7C5D-4256-8304-D3A17AFA9F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97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72920" y="1600200"/>
            <a:ext cx="3885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53520" y="1600200"/>
            <a:ext cx="3885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72920" y="3988440"/>
            <a:ext cx="3885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53520" y="3988440"/>
            <a:ext cx="3885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D5B8B-44DC-476C-AAA5-1DF5D9F462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97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72920" y="1600200"/>
            <a:ext cx="2563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5360" y="1600200"/>
            <a:ext cx="2563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7800" y="1600200"/>
            <a:ext cx="2563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72920" y="3988440"/>
            <a:ext cx="2563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5360" y="3988440"/>
            <a:ext cx="2563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7800" y="3988440"/>
            <a:ext cx="2563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1B434-30F6-4049-8EC6-7E2733AAFF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97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72920" y="1600200"/>
            <a:ext cx="79628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BD73E-4D01-4298-8D6F-20323A24AC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97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72920" y="1600200"/>
            <a:ext cx="7962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759BA-33E2-4B8B-922F-96C3740F20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97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2920" y="1600200"/>
            <a:ext cx="3885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53520" y="1600200"/>
            <a:ext cx="3885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410D9-5A4F-40F8-B28D-446D88AB1F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97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AA217-AD58-4FF1-A621-28ED38ED8F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97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3DA31-2640-4F62-A666-C74A451265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97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72920" y="1600200"/>
            <a:ext cx="3885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53520" y="1600200"/>
            <a:ext cx="3885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72920" y="3988440"/>
            <a:ext cx="3885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DA1C7-2DD3-4CAB-A1E2-A1EE346E59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97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72920" y="1600200"/>
            <a:ext cx="3885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53520" y="1600200"/>
            <a:ext cx="3885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53520" y="3988440"/>
            <a:ext cx="3885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714CE-D72D-4C8A-B44B-75BD509C92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97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72920" y="1600200"/>
            <a:ext cx="3885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53520" y="1600200"/>
            <a:ext cx="3885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72920" y="3988440"/>
            <a:ext cx="7962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C4F7E-CD3D-4A7C-9F34-2634A8BE67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97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Arial"/>
              </a:rPr>
              <a:t>Slide 1- </a:t>
            </a:r>
            <a:fld id="{378E9936-4537-485D-A899-35E4A066D967}" type="slidenum">
              <a:rPr b="1" lang="en-US" sz="1200" spc="-1" strike="noStrike">
                <a:solidFill>
                  <a:srgbClr val="3333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772920" y="1600200"/>
            <a:ext cx="7962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349"/>
              </a:spcBef>
              <a:buClr>
                <a:srgbClr val="f0c200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349"/>
              </a:spcBef>
              <a:buClr>
                <a:srgbClr val="cc0066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349"/>
              </a:spcBef>
              <a:buClr>
                <a:srgbClr val="f0c200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349"/>
              </a:spcBef>
              <a:buClr>
                <a:srgbClr val="cc0066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6000" y="639756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10, 2007, 2004 Pearson Education, Inc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rot="16200000">
            <a:off x="-3281040" y="3281400"/>
            <a:ext cx="6858000" cy="295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rot="5400000">
            <a:off x="-3065040" y="3358440"/>
            <a:ext cx="6856200" cy="136440"/>
          </a:xfrm>
          <a:prstGeom prst="rect">
            <a:avLst/>
          </a:prstGeom>
          <a:gradFill rotWithShape="0">
            <a:gsLst>
              <a:gs pos="0">
                <a:srgbClr val="c9c9c9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380880"/>
            <a:ext cx="8077320" cy="11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509"/>
                </a:solidFill>
                <a:latin typeface="Arial"/>
              </a:rPr>
              <a:t>Active Learning Lecture Slid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509"/>
                </a:solidFill>
                <a:latin typeface="Arial"/>
              </a:rPr>
              <a:t>For use with Classroom Respons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9600"/>
            <a:ext cx="4724280" cy="32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7d509"/>
                </a:solidFill>
                <a:latin typeface="Arial"/>
              </a:rPr>
              <a:t>Elementary Statistic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venth Edi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d the Triola Statistics Series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Mario F. Tri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1727280"/>
            <a:ext cx="647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pter 1:                     Introduction to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28480" y="3233880"/>
            <a:ext cx="2664000" cy="313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24526-EB3D-46DF-BA2B-5F09EBC5E1C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671760"/>
            <a:ext cx="81536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s on a survey are scored with integers 1 thru 5 with 1 representing Strongly Disagree and 5 Strongly Agree.  This is an example of what kind of measur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Nomi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Rat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Ordi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Interv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D7005-D671-4EDF-A3BE-16EFB9A5EC3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09480" y="671760"/>
            <a:ext cx="81536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s on a survey are scored with integers 1 thru 5 with 1 representing Strongly Disagree and 5 Strongly Agree.  This is an example of what kind of measur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A.  Nomi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B.  Rat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Ordi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D.  Interv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9800" y="4800600"/>
            <a:ext cx="3264120" cy="76212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E46D2-8596-4B8E-BD6D-D48B406896C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14400" y="465480"/>
            <a:ext cx="7620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a large lecture room class of 300 students, a sample of 10 was taken to determine the male/female make up of the class.  Which misuse of statistics does this re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Percent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Precise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Missing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Small samp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BF8F7-45D1-43A5-927E-E5898792D50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14400" y="465480"/>
            <a:ext cx="7620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a large lecture room class of 300 students, a sample of 10 was taken to determine the male/female make up of the class.  Which misuse of statistics does this re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A.  Percent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B.  Precise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C.  Missing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Small samp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5356080"/>
            <a:ext cx="3581640" cy="99072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BD64D-A3C0-4BE4-8B65-4D8CBC3608F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38080" y="535320"/>
            <a:ext cx="7543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 a security checkpoint to a government facility, every 10th individual was more thoroughly searched than the others.  What type of sampling is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System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Conveni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Stratif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Clus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0A397-1483-40AB-836C-0014A5D6B10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38080" y="535320"/>
            <a:ext cx="7543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 a security checkpoint to a government facility, every 10th individual was more thoroughly searched than the others.  What type of sampling is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System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B.  Conveni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C.  Stratif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D.  Clus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6480" y="2909880"/>
            <a:ext cx="2911680" cy="99072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8F44B-6FA9-4B34-8425-DF85AE90683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838080" y="687240"/>
            <a:ext cx="7620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sualty data from the great flu epidemic of 1918 were collected for a study.  This represents what type of stud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Cross-sect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Retrosp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Prosp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Qualita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D7C96-1AA4-40A7-BDCB-1E4AED2A0ED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38080" y="687240"/>
            <a:ext cx="7620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sualty data from the great flu epidemic of 1918 were collected for a study.  This represents what type of stud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A.  Cross-sect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Retrosp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C.  Prosp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D.  Qualita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2440" y="3489480"/>
            <a:ext cx="3581280" cy="9903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01EFD-576F-459F-AE74-4F6584DF7FF5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1109520"/>
            <a:ext cx="7620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opulation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collection of observ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collection of methods for planning studies and experi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mplete collection of all e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A subcollection of members drawn from a larger 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670F2-FDA6-47BB-94D1-B12F52E7939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109520"/>
            <a:ext cx="7620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opulation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A collection of observ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b2b2b2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A collection of methods for planning studies and experi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mplete collection of all e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D. A subcollection of members drawn from a larger 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00" y="3919680"/>
            <a:ext cx="8229600" cy="9903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964BF-CC75-4297-B31A-1261844459C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09480" y="1081080"/>
            <a:ext cx="8153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elf-selected study is a source of bias in which factor of statistical analys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Source of the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Context of the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Mathematical calcul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Sampling met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EA846-1D6E-47AC-BF84-9D03601CC57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9480" y="1081080"/>
            <a:ext cx="8153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elf-selected study is a source of bias in which factor of statistical analys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A. Source of the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B. Context of the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C. Mathematical calcul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Sampling met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440" y="5227560"/>
            <a:ext cx="4251240" cy="77472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AE947-A8F0-4749-9D50-A010A2BBAC6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865080"/>
            <a:ext cx="8153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is an example of quantitative da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Weights of high school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Genders of actors and actre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Colors of the rainb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Consumer ratings of a particular automobile (below average, average, and above averag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A68BA-0858-400A-8D90-70F9D43BE16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09480" y="865080"/>
            <a:ext cx="8153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is an example of quantitative da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Weights of high school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B.  Genders of actors and actre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C.  Colors of the rainb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D.  Consumer ratings of a particular automobile (below average, average, and above averag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9800" y="1828800"/>
            <a:ext cx="7226280" cy="121932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4889A-3932-4A56-A87B-35B99935FFF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763560"/>
            <a:ext cx="8153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is not an example of continuous da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Temperature on a thermome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Number of students in an algebra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Mean weight of 100 flour sac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Amount of water pumped from a pond per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01F03-033F-40C5-9C06-87D16962DFE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763560"/>
            <a:ext cx="8153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is not an example of continuous da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A.  Temperature on a thermome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Number of students in an algebra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C.  Mean weight of 100 flour sac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D.  Amount of water pumped from a pond per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9800" y="2590920"/>
            <a:ext cx="8369280" cy="12189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DE4DF-BECE-40B6-9FCD-1A02D404338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9:46:41Z</dcterms:created>
  <dc:creator>Marty Triola</dc:creator>
  <dc:description/>
  <dc:language>en-US</dc:language>
  <cp:lastModifiedBy>ustavch</cp:lastModifiedBy>
  <cp:lastPrinted>2006-04-03T17:26:19Z</cp:lastPrinted>
  <dcterms:modified xsi:type="dcterms:W3CDTF">2009-04-16T17:49:28Z</dcterms:modified>
  <cp:revision>147</cp:revision>
  <dc:subject>Introduction to Statistics</dc:subject>
  <dc:title>Chapter 1</dc:title>
</cp:coreProperties>
</file>